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2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14B-A5A6-4224-B8F5-950626DB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D89-A046-4D36-ABCC-18D4C618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EB5-6498-43B2-AFAF-CA34D557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44B-E4B6-46E8-8FB3-340A7103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083-69F1-4208-AB54-0239B7BA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22C-95E2-4992-A0D3-C9599B9C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0D3-4500-49A1-A68E-B2E69E7F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677-096F-428A-B0C3-83A5063A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323-77EB-428F-9297-3AC87C3B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B5A-8E9B-4C7E-AF53-CEF88D3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0D1-484A-48B0-B540-686FC67F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B03-E236-468C-A9DB-52F230A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D625-5AE3-4A14-9F5E-CFA60DAEE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6.gif"/><Relationship Id="rId12" Type="http://schemas.openxmlformats.org/officeDocument/2006/relationships/image" Target="../media/image4.gif"/><Relationship Id="rId13" Type="http://schemas.openxmlformats.org/officeDocument/2006/relationships/image" Target="../media/image2.gif"/><Relationship Id="rId14" Type="http://schemas.openxmlformats.org/officeDocument/2006/relationships/image" Target="../media/image11.gif"/><Relationship Id="rId15" Type="http://schemas.openxmlformats.org/officeDocument/2006/relationships/image" Target="../media/image10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11.gif"/><Relationship Id="rId1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rwflags.com/fotw/images/a/au_eka.gif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crwflags.com/fotw/images/a/au_eka.gif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www.crwflags.com/fotw/images/a/au_eka.gif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crwflags.com/fotw/images/a/au_eka.gif" TargetMode="Externa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6.gif"/><Relationship Id="rId9" Type="http://schemas.openxmlformats.org/officeDocument/2006/relationships/image" Target="../media/image17.gif"/><Relationship Id="rId10" Type="http://schemas.openxmlformats.org/officeDocument/2006/relationships/image" Target="../media/image7.gif"/><Relationship Id="rId11" Type="http://schemas.openxmlformats.org/officeDocument/2006/relationships/image" Target="../media/image13.gif"/><Relationship Id="rId12" Type="http://schemas.openxmlformats.org/officeDocument/2006/relationships/image" Target="../media/image18.gif"/><Relationship Id="rId13" Type="http://schemas.openxmlformats.org/officeDocument/2006/relationships/image" Target="../media/image5.gif"/><Relationship Id="rId14" Type="http://schemas.openxmlformats.org/officeDocument/2006/relationships/image" Target="../media/image19.gif"/><Relationship Id="rId15" Type="http://schemas.openxmlformats.org/officeDocument/2006/relationships/image" Target="../media/image8.gif"/><Relationship Id="rId16" Type="http://schemas.openxmlformats.org/officeDocument/2006/relationships/image" Target="../media/image9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3399ff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5229360"/>
            <a:ext cx="714240" cy="952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68360" y="148428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59280" y="148428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780000" y="148428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843280" y="242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564000" y="242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427640" y="242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219640" y="242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084720" y="242100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877080" y="242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667640" y="242100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916360" y="3645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780000" y="3645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2268360" y="5229360"/>
            <a:ext cx="809640" cy="95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3924360" y="5229360"/>
            <a:ext cx="876240" cy="952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3059280" y="5229360"/>
            <a:ext cx="87624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788000" y="5229360"/>
            <a:ext cx="876240" cy="952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Bushrang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shrangers are convicts that have esca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to steal when there are a few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ride on horses to easily attack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d Kelly was a famous bushra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u_eka" descr="[Eureka Flag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76360" cy="1108080"/>
          </a:xfrm>
          <a:prstGeom prst="rect">
            <a:avLst/>
          </a:prstGeom>
          <a:ln w="0">
            <a:noFill/>
          </a:ln>
        </p:spPr>
      </p:pic>
      <p:pic>
        <p:nvPicPr>
          <p:cNvPr id="62" name="au_eka" descr="[Eureka Flag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749920"/>
            <a:ext cx="2484360" cy="1108080"/>
          </a:xfrm>
          <a:prstGeom prst="rect">
            <a:avLst/>
          </a:prstGeom>
          <a:ln w="0">
            <a:noFill/>
          </a:ln>
        </p:spPr>
      </p:pic>
      <p:pic>
        <p:nvPicPr>
          <p:cNvPr id="63" name="au_eka" descr="[Eureka Flag]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32720" y="5749920"/>
            <a:ext cx="2411280" cy="1108080"/>
          </a:xfrm>
          <a:prstGeom prst="rect">
            <a:avLst/>
          </a:prstGeom>
          <a:ln w="0">
            <a:noFill/>
          </a:ln>
        </p:spPr>
      </p:pic>
      <p:pic>
        <p:nvPicPr>
          <p:cNvPr id="64" name="au_eka" descr="[Eureka Flag]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0"/>
            <a:ext cx="2411280" cy="110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 rot="10800000">
            <a:off x="2987640" y="2996280"/>
            <a:ext cx="71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shranger                 ques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99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id the bushrangers do on the gold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id they dres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did they exis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did Ned Kelly d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ushrangers be also a good per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hey good at tricking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can’t they dig for their own g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do they only steal gold from one or two people at a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00360" y="2492280"/>
            <a:ext cx="691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shr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au_eka" descr="[Eureka Flag]"/>
          <p:cNvPicPr/>
          <p:nvPr/>
        </p:nvPicPr>
        <p:blipFill>
          <a:blip r:embed="rId1"/>
          <a:stretch/>
        </p:blipFill>
        <p:spPr>
          <a:xfrm>
            <a:off x="0" y="0"/>
            <a:ext cx="2376360" cy="1108080"/>
          </a:xfrm>
          <a:prstGeom prst="rect">
            <a:avLst/>
          </a:prstGeom>
          <a:ln w="0">
            <a:noFill/>
          </a:ln>
        </p:spPr>
      </p:pic>
      <p:pic>
        <p:nvPicPr>
          <p:cNvPr id="70" name="au_eka" descr="[Eureka Flag]"/>
          <p:cNvPicPr/>
          <p:nvPr/>
        </p:nvPicPr>
        <p:blipFill>
          <a:blip r:embed="rId2"/>
          <a:stretch/>
        </p:blipFill>
        <p:spPr>
          <a:xfrm>
            <a:off x="0" y="5749920"/>
            <a:ext cx="2376360" cy="1108080"/>
          </a:xfrm>
          <a:prstGeom prst="rect">
            <a:avLst/>
          </a:prstGeom>
          <a:ln w="0">
            <a:noFill/>
          </a:ln>
        </p:spPr>
      </p:pic>
      <p:pic>
        <p:nvPicPr>
          <p:cNvPr id="71" name="au_eka" descr="[Eureka Flag]"/>
          <p:cNvPicPr/>
          <p:nvPr/>
        </p:nvPicPr>
        <p:blipFill>
          <a:blip r:embed="rId3"/>
          <a:stretch/>
        </p:blipFill>
        <p:spPr>
          <a:xfrm>
            <a:off x="6767640" y="5749920"/>
            <a:ext cx="2376360" cy="1108080"/>
          </a:xfrm>
          <a:prstGeom prst="rect">
            <a:avLst/>
          </a:prstGeom>
          <a:ln w="0">
            <a:noFill/>
          </a:ln>
        </p:spPr>
      </p:pic>
      <p:pic>
        <p:nvPicPr>
          <p:cNvPr id="72" name="au_eka" descr="[Eureka Flag]"/>
          <p:cNvPicPr/>
          <p:nvPr/>
        </p:nvPicPr>
        <p:blipFill>
          <a:blip r:embed="rId4"/>
          <a:stretch/>
        </p:blipFill>
        <p:spPr>
          <a:xfrm>
            <a:off x="6767640" y="0"/>
            <a:ext cx="23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shrangers robbed gold from people like miners and d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ore boots, coats, pants and a hel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existed in the 1840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d Kelly died in 194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!!! They can only be a bad per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 sometimes they mess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don’t want to because it is a lot of hard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rather steal off one or 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419640" y="98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284720" y="98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411280" y="256536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3203640" y="256536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995640" y="256536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1332000" y="436572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2195640" y="436572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3059280" y="436572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3708360" y="436572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4427640" y="436572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5292720" y="4365720"/>
            <a:ext cx="571680" cy="95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5796000" y="436572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6"/>
          <a:stretch/>
        </p:blipFill>
        <p:spPr>
          <a:xfrm>
            <a:off x="6588000" y="4365720"/>
            <a:ext cx="87660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7"/>
          <a:stretch/>
        </p:blipFill>
        <p:spPr>
          <a:xfrm>
            <a:off x="5148360" y="981000"/>
            <a:ext cx="714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Biography!~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her’s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2:48:59Z</dcterms:created>
  <dc:creator>jenny.n</dc:creator>
  <dc:description/>
  <dc:language>en-US</dc:language>
  <cp:lastModifiedBy>jenny.n</cp:lastModifiedBy>
  <dcterms:modified xsi:type="dcterms:W3CDTF">2010-09-13T02:28:51Z</dcterms:modified>
  <cp:revision>9</cp:revision>
  <dc:subject/>
  <dc:title>Bushrangers</dc:title>
</cp:coreProperties>
</file>